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ct" ContentType="image/x-pict"/>
  <Override PartName="/ppt/media/image4.pct" ContentType="image/x-pict"/>
  <Override PartName="/ppt/media/image5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300-E4A6-4E0D-8D62-AC40222A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42A-BB50-4977-8B6C-8F85A745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175-2A97-4620-842C-ED74E43E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794-B300-4BDC-9822-2F1B1361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995-4B4D-4C03-A703-F5C4B628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88C-BE25-41F5-BE45-665BBB6C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17C-F07F-43DD-B8ED-6AEAC81E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2D0-8085-4095-9314-3ECA18E0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121-AA0D-4B58-B7D1-9CD2A402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3E7-9745-4451-8168-E19CCBD3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6CF-600C-4687-BB8C-9E09921D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5A7-6F88-4330-A1E2-8C419E15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18B1-B318-4942-A6FF-2EC723BADBB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Le défi de Domi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867280" y="274320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2971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4114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4343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72400" y="3505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373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147680" cy="762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010280" y="4952880"/>
            <a:ext cx="685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071f"/>
                </a:solidFill>
                <a:latin typeface="Handwriting - Dakota"/>
              </a:rPr>
              <a:t>12</a:t>
            </a:r>
            <a:r>
              <a:rPr b="0" lang="en-US" sz="800" spc="-1" strike="noStrike">
                <a:solidFill>
                  <a:srgbClr val="fb071f"/>
                </a:solidFill>
                <a:latin typeface="Handwriting - Dakota"/>
              </a:rPr>
              <a:t> </a:t>
            </a:r>
            <a:r>
              <a:rPr b="0" lang="en-US" sz="1200" spc="-1" strike="noStrike">
                <a:solidFill>
                  <a:srgbClr val="fb071f"/>
                </a:solidFill>
                <a:latin typeface="Handwriting - Dakota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648320"/>
            <a:ext cx="685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071f"/>
                </a:solidFill>
                <a:latin typeface="Handwriting - Dakota"/>
              </a:rPr>
              <a:t>10</a:t>
            </a:r>
            <a:r>
              <a:rPr b="0" lang="en-US" sz="1200" spc="-1" strike="noStrike">
                <a:solidFill>
                  <a:srgbClr val="fb071f"/>
                </a:solidFill>
                <a:latin typeface="Handwriting - Dakota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071f"/>
                </a:solidFill>
                <a:latin typeface="Handwriting - Dakota"/>
              </a:rPr>
              <a:t>24</a:t>
            </a:r>
            <a:r>
              <a:rPr b="0" lang="en-US" sz="800" spc="-1" strike="noStrike">
                <a:solidFill>
                  <a:srgbClr val="fb071f"/>
                </a:solidFill>
                <a:latin typeface="Handwriting - Dakota"/>
              </a:rPr>
              <a:t> </a:t>
            </a:r>
            <a:r>
              <a:rPr b="0" lang="en-US" sz="1200" spc="-1" strike="noStrike">
                <a:solidFill>
                  <a:srgbClr val="fb071f"/>
                </a:solidFill>
                <a:latin typeface="Handwriting - Dakota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2362320" cy="1579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04920" y="4800600"/>
            <a:ext cx="1582560" cy="1722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479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andwriting - Dakota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Afin de résoudre le problème, tu dois utiliser la relation de Pythagore à deux repris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19051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1- À partir de triangle rectangle ABC. tu peux trouver              la mesure de AC en utilisant la relation de Pythag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286000" y="2895480"/>
                <a:ext cx="15238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86200" y="3014640"/>
                <a:ext cx="7873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28600" y="3886200"/>
            <a:ext cx="5791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2- Tu peux maintenant trouver la mesure de la diagonale du prisme rectangulaire en utilisant à nouveau la relation de Pythagore et à partir du triangle rectangle AC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752480" y="5943600"/>
                <a:ext cx="18288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733920" y="5867280"/>
                <a:ext cx="1523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800600" y="2971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9600" y="5859360"/>
            <a:ext cx="68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2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200"/>
                            </p:stCondLst>
                            <p:childTnLst>
                              <p:par>
                                <p:cTn id="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4:09:24Z</dcterms:created>
  <dc:creator>LAMISS</dc:creator>
  <dc:description/>
  <dc:language>en-US</dc:language>
  <cp:lastModifiedBy>LAMISS</cp:lastModifiedBy>
  <dcterms:modified xsi:type="dcterms:W3CDTF">2008-04-08T20:38:52Z</dcterms:modified>
  <cp:revision>9</cp:revision>
  <dc:subject/>
  <dc:title>Présentation PowerPoint</dc:title>
</cp:coreProperties>
</file>